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6C3-96AF-446B-BC09-064D0EB2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0E1-0E49-4AA6-908D-17AE4CDB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038-D0F0-410D-9ACC-D9D4E627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F33-7D8F-4E61-82EC-CFAE4B52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07BB-9AE7-4DFB-8C98-424438D2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58EE-AD06-4E6F-B850-A847E908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8CB1-31A1-43C8-AF4A-90A3ECA1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04BA-EDE2-4FF8-BC19-63B815A5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172D-E0E2-4FC3-84F5-0D7FC5BD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FC12-6142-4131-B29C-1B4B0068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A4FF-722A-4D19-AF6C-3369F960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A89-7CED-495A-9FB9-E3CF6ED8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940D-2FAC-4B11-B690-BC4A0413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4A58-5822-4137-A5A7-AC6F3038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A5C3-10F2-4F1E-92BA-1B6C4552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C501-69D9-4B7A-A890-F874F1BD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ED1C-3E33-43A7-962E-61A41D13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68F-807E-40ED-AB91-76FFE991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A71-8CA1-4AB6-BC4E-6469C137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E6D9-A4F5-4EB7-BDA9-04269996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AD6-94FE-4137-A59B-A7082C70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64A-6A71-428A-9DFC-A2B2A981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0F7D-32A9-4D89-9C3A-E987E26F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D642-1144-44A4-8988-DD88F377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A635-400D-4805-BA56-9466957D4C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1367-88FC-4EB4-A7C7-3ACAE29D431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24000" y="404640"/>
            <a:ext cx="828036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ект на тему:</a:t>
            </a:r>
            <a:endParaRPr b="0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Золотое сечение в архитектуре"</a:t>
            </a:r>
            <a:endParaRPr b="0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/>
          <p:nvPr/>
        </p:nvSpPr>
        <p:spPr>
          <a:xfrm>
            <a:off x="3708360" y="4653000"/>
            <a:ext cx="5257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втор проекта: учащаяся 12 груп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икорская И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уководитель: Маликова Юли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43280" y="6021360"/>
            <a:ext cx="338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ицей РГС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10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11280" y="476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Дорифор Поликл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2708280" cy="54450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4716360" y="1125360"/>
            <a:ext cx="3355920" cy="51832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003640" y="40464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Венера Милос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a9076"/>
                </a:solidFill>
                <a:latin typeface="Tahoma"/>
              </a:rPr>
              <a:t>«Золотое сечение» в современной архитектур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4067280" y="1773360"/>
            <a:ext cx="4822560" cy="46512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324000" y="2133720"/>
            <a:ext cx="3205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Пропорции Покровского собора на Красной площади в Москве определяются восемью членами ряда золотого сечения. Многие члены этого ряда повторяются в затейливых элементах храма многократ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a9076"/>
                </a:solidFill>
                <a:latin typeface="Tahoma"/>
              </a:rPr>
              <a:t>«Золотое сечение» в древней архитектур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>
            <a:off x="468360" y="1916280"/>
            <a:ext cx="30956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Парфенон имеет 8 колонн по коротким сторонам и 17 по длинным. Отношение высоты здания к его длине равно 0,618. Если произвести деление Парфенона по золотому сечению, то получим те или иные выступы фаса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im3_2" descr=""/>
          <p:cNvPicPr/>
          <p:nvPr/>
        </p:nvPicPr>
        <p:blipFill>
          <a:blip r:embed="rId1"/>
          <a:stretch/>
        </p:blipFill>
        <p:spPr>
          <a:xfrm>
            <a:off x="3708360" y="1916280"/>
            <a:ext cx="5256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3757320" cy="51850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4643280" y="1413000"/>
            <a:ext cx="302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здании собора Парижской Богоматери мы тоже видим золотую пропорц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9076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олотая пропорция встречается в конфигурации растений и минералов, строении частей Вселенной, музыкальном звукоряде. Она отражает глобальные принципы природы, проникая во все уровни организации живых и неживых объектов. Её используют в архитектуре, скульптуре, живописи, науки, вычислительной технике, при проектировании предметов бы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Творения, несущие в себе конфигурацию золотого сечения, представляются соразмерными и согласованными, всегда приятны взгляду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олотое сечение лежит в основе гармонии и красоты мирозд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9076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нятие «золотого сечени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Золотое сечение» отрез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Золотой» прямоуголь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Золотой» треуголь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ятиконечная звез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Золотое сечение» в анатом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Золотое сечение» в скульпту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Золотое сечение» в современной архитекту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Золотое сечение» в древней архитекту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9076"/>
                </a:solidFill>
                <a:latin typeface="Tahoma"/>
              </a:rPr>
              <a:t>Золотое сеч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250920" y="1268280"/>
            <a:ext cx="8569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олотое сечение - это такое пропорциональное деление отрезка на неравные части, при котором весь отрезок так относится к большей части, как сама большая часть относится к меньшей; или другими словами, меньший отрезок так относится к большему, как больший ко всему отрезку. Соотношение это примерно равно 0,61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851280" y="2997360"/>
            <a:ext cx="4968720" cy="11365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250920" y="3573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: b = b : c или с : b = b : 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635280" y="45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орму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1908000" y="5084640"/>
            <a:ext cx="4391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9076"/>
                </a:solidFill>
                <a:latin typeface="Tahoma"/>
              </a:rPr>
              <a:t>«Золотое сечение» отрез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468360" y="1413000"/>
            <a:ext cx="763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1280" y="1557360"/>
            <a:ext cx="78483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з точки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восставляется перпендикуляр, равный половине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В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Полученная точка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соединяется линией с точкой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На полученной линии откладывается отрезок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С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, заканчивающийся точкой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Отрезок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AD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переносится на прямую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В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Полученная при этом точка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делит отрезок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В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в соотношении золотой пропор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войства золотого сечения описываю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равнением: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x*х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– 1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шение этого уравн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Деление отрезка прямой по золотому сечению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4284720" y="3933720"/>
            <a:ext cx="4608360" cy="25275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Свойства золотого сечения: решение уравнения"/>
          <p:cNvPicPr/>
          <p:nvPr/>
        </p:nvPicPr>
        <p:blipFill>
          <a:blip r:embed="rId2"/>
          <a:stretch/>
        </p:blipFill>
        <p:spPr>
          <a:xfrm>
            <a:off x="1116000" y="4797360"/>
            <a:ext cx="2232000" cy="11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9076"/>
                </a:solidFill>
                <a:latin typeface="Tahoma"/>
              </a:rPr>
              <a:t>«Золотой» прямоугольни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250920" y="1916280"/>
            <a:ext cx="35290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Если от прямоугольника отрезать квадрат, опять останется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золотой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”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прямоугольник, и этот процесс можно продолжать бесконечно. А диагонали первого и второго прямоугольников пересекутся в точке О, которая будет принадлежать всем получаемым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золотым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”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прямоугольник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0037-1001" descr=""/>
          <p:cNvPicPr/>
          <p:nvPr/>
        </p:nvPicPr>
        <p:blipFill>
          <a:blip r:embed="rId1"/>
          <a:stretch/>
        </p:blipFill>
        <p:spPr>
          <a:xfrm>
            <a:off x="3851280" y="1916280"/>
            <a:ext cx="496872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9076"/>
                </a:solidFill>
                <a:latin typeface="Tahoma"/>
              </a:rPr>
              <a:t>«Золотой» треугольни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Picture 6" descr=""/>
          <p:cNvPicPr/>
          <p:nvPr/>
        </p:nvPicPr>
        <p:blipFill>
          <a:blip r:embed="rId1"/>
          <a:stretch/>
        </p:blipFill>
        <p:spPr>
          <a:xfrm>
            <a:off x="4859280" y="1341360"/>
            <a:ext cx="3799080" cy="53276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39640" y="2492280"/>
            <a:ext cx="3527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Длины биссектрис углов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при его основании равны длине самого осн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9076"/>
                </a:solidFill>
                <a:latin typeface="Tahoma"/>
              </a:rPr>
              <a:t>Пятиконечная звез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324000" y="1916280"/>
            <a:ext cx="352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аждый конец пятиугольной звезды представляет собой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золотой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”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треугольник. Его стороны образуют угол 36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°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при вершине, а основание, отложенное на боковую сторону, делит её в пропорции золотого се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3924360" y="1484280"/>
            <a:ext cx="468000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54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9076"/>
                </a:solidFill>
                <a:latin typeface="Tahoma"/>
              </a:rPr>
              <a:t>«Золотое сечение» в анатоми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Picture 5" descr="Урок 17 (33)"/>
          <p:cNvPicPr/>
          <p:nvPr/>
        </p:nvPicPr>
        <p:blipFill>
          <a:blip r:embed="rId1"/>
          <a:stretch/>
        </p:blipFill>
        <p:spPr>
          <a:xfrm>
            <a:off x="5076720" y="836640"/>
            <a:ext cx="3587760" cy="5877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395280" y="1484280"/>
            <a:ext cx="41054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Рост человека делится в золотых пропорциях линией пояса, а также линией, проведенной через кончики средних пальцев опущенных рук, а нижняя часть лица - р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a9076"/>
                </a:solidFill>
                <a:latin typeface="Tahoma"/>
              </a:rPr>
              <a:t>«Золотое сечение» в скульптур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611280" y="1916280"/>
            <a:ext cx="2808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Золотая пропорция статуи Аполлона: рост изображенного человека делится пупочной линией в золотом сеч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146" descr="articles_addimg_432_gold11"/>
          <p:cNvPicPr/>
          <p:nvPr/>
        </p:nvPicPr>
        <p:blipFill>
          <a:blip r:embed="rId1"/>
          <a:stretch/>
        </p:blipFill>
        <p:spPr>
          <a:xfrm>
            <a:off x="4500720" y="1484280"/>
            <a:ext cx="3706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4T13:31:44Z</dcterms:created>
  <dc:creator>Ira</dc:creator>
  <dc:description/>
  <dc:language>en-US</dc:language>
  <cp:lastModifiedBy>Ira</cp:lastModifiedBy>
  <dcterms:modified xsi:type="dcterms:W3CDTF">2010-01-23T07:59:54Z</dcterms:modified>
  <cp:revision>4</cp:revision>
  <dc:subject/>
  <dc:title>Слайд 1</dc:title>
</cp:coreProperties>
</file>